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78C7-7F3F-4877-B7F3-77ACDF31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AFF0-8056-4B9F-BC38-7DE17CB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2360-D5DD-4569-B37A-0EED72D4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757E-CFFD-4AA0-AF47-C065F143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3E09-9422-4608-AF7E-78F438FC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8F5-9A55-4EAD-BEE1-0F43A0D6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7540-03BC-4187-8538-7998BE71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93F-0507-4602-89DC-C0FFFFE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AD08-4883-4C2D-B59A-6B7AFAF9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D2D0-BD62-48DC-A974-FE9D3E1B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4D5-6056-4FFF-ACC6-A76DAC7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F090-3B95-4B94-8DC0-4746E07A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6021-7EB4-4039-8043-1CC8C0A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E6B3-8445-4502-95A3-300A381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928-D6C4-4342-BAA6-3721F56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6472-1F68-42FA-A0A5-C5012A52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855-00D5-4FAB-8C26-88A0430D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301C-A4DB-4299-AF58-4DCE6640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298A-E75B-4720-9413-D59DE08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1D8A-CC86-40ED-84EB-19126E42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9C15-9381-42F5-A602-89DF8B49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6058-93E0-484E-95B5-77DC716C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E747-991F-4342-BC95-561E7AF0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9676-F470-4D23-BFCD-FD4D4C5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7383-BE68-44C7-B7C0-4FB46EAF7F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3F9-ECA4-47D0-9E34-816A26A007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lengua...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sadelante.com/faq-componentes-de-un-ordenador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71640" y="1989000"/>
            <a:ext cx="6985080" cy="23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FTW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APLICACIÓN programa informático diseñado para facilitar al usuario la realización de un determinado tipo de trabaj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PROGRAMA conjunto de instrucciones escritas en un </a:t>
            </a:r>
            <a:r>
              <a:rPr b="0" lang="es-CO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lenguaje de programación 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para su ejecución en un ordenador o computad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UTILIDAD (informática), programa diseñado para realizar una función de mantenimiento del ordenador o computadora, de una aplicación o de un entorno de desarroll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e5e5ff"/>
                </a:solidFill>
                <a:latin typeface="Garamond"/>
              </a:rPr>
              <a:t>SISTEMA OPERATIVO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oftware básico de una computadora que provee una interfaz entre el resto de programas del ordenador, el hardware y el usuari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FUNCIONES BÁS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dministrar los recursos de la máquin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ordinar el hardwar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rganizar archivos y directorios en dispositivos de almacenamiento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CLASIFICACIÓN DE LOS S.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usuari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Permite que dos o más  usuarios utilicen sus programas al mismo tiemp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procesado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soporta el abrir un mismo programa en más de una </a:t>
            </a:r>
            <a:r>
              <a:rPr b="0" lang="es-E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CP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tare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Permite que varios programas se ejecuten al mismo tiemp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tra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Permite que diversas partes de un solo programa funcionen al mismo tiemp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iempo Real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Responde a las entradas inmediatamen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ÓMO FUNCIONA UN S.O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0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s sistemas operativos proporcionan una plataforma de software encima de la cual otros programas, llamados aplicaciones, puedan funciona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SISTEMAS OPERA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52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amilia Windo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95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98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M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N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2000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2000 serv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XP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Server 200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Mobi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XP 64 bit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Vista (Longhor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56000" y="1125360"/>
            <a:ext cx="417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milia Macinto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7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8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9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milia UNI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M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GNU/Linu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GNU / Hur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P-U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Ir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in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ystem V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olar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nixWar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00"/>
                </a:solidFill>
                <a:latin typeface="Garamond"/>
              </a:rPr>
              <a:t>Lenguaje de programación</a:t>
            </a:r>
            <a:r>
              <a:rPr b="1" lang="es-CO" sz="3600" spc="-1" strike="noStrike">
                <a:solidFill>
                  <a:srgbClr val="e5e5ff"/>
                </a:solidFill>
                <a:latin typeface="Garamond"/>
              </a:rPr>
              <a:t>, en informática, cualquier lenguaje artificial que puede utilizarse para definir una secuencia de instrucciones para su procesamiento por un ordenador o computadora.</a:t>
            </a:r>
            <a:r>
              <a:rPr b="1" lang="es-CO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804000" y="5734080"/>
            <a:ext cx="504720" cy="574560"/>
          </a:xfrm>
          <a:custGeom>
            <a:avLst/>
            <a:gdLst>
              <a:gd name="textAreaLeft" fmla="*/ 72720 w 504720"/>
              <a:gd name="textAreaRight" fmla="*/ 432000 w 504720"/>
              <a:gd name="textAreaTop" fmla="*/ 72720 h 574560"/>
              <a:gd name="textAreaBottom" fmla="*/ 50184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18475" y="3125"/>
                </a:lnTo>
                <a:lnTo>
                  <a:pt x="3125" y="3125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18475" y="21462"/>
                </a:lnTo>
                <a:lnTo>
                  <a:pt x="18475" y="3125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3125" y="21462"/>
                </a:lnTo>
                <a:lnTo>
                  <a:pt x="18475" y="21462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3125" y="3125"/>
                </a:lnTo>
                <a:lnTo>
                  <a:pt x="3125" y="21462"/>
                </a:lnTo>
                <a:close/>
              </a:path>
              <a:path fill="darken" w="21600" h="24587">
                <a:moveTo>
                  <a:pt x="10800" y="6608"/>
                </a:moveTo>
                <a:lnTo>
                  <a:pt x="12904" y="8740"/>
                </a:lnTo>
                <a:lnTo>
                  <a:pt x="12904" y="7319"/>
                </a:lnTo>
                <a:lnTo>
                  <a:pt x="14353" y="7319"/>
                </a:lnTo>
                <a:lnTo>
                  <a:pt x="14353" y="10190"/>
                </a:lnTo>
                <a:lnTo>
                  <a:pt x="16485" y="12293"/>
                </a:lnTo>
                <a:lnTo>
                  <a:pt x="15135" y="12293"/>
                </a:lnTo>
                <a:lnTo>
                  <a:pt x="15135" y="18163"/>
                </a:lnTo>
                <a:lnTo>
                  <a:pt x="6465" y="18163"/>
                </a:lnTo>
                <a:lnTo>
                  <a:pt x="6465" y="12293"/>
                </a:lnTo>
                <a:lnTo>
                  <a:pt x="5115" y="12293"/>
                </a:lnTo>
                <a:close/>
              </a:path>
              <a:path fill="darkenLess" w="21600" h="24587">
                <a:moveTo>
                  <a:pt x="12904" y="8740"/>
                </a:moveTo>
                <a:lnTo>
                  <a:pt x="12904" y="7319"/>
                </a:lnTo>
                <a:lnTo>
                  <a:pt x="14353" y="7319"/>
                </a:lnTo>
                <a:lnTo>
                  <a:pt x="14353" y="10190"/>
                </a:lnTo>
                <a:close/>
              </a:path>
              <a:path fill="darkenLess" w="21600" h="24587">
                <a:moveTo>
                  <a:pt x="10047" y="15150"/>
                </a:moveTo>
                <a:lnTo>
                  <a:pt x="11553" y="15150"/>
                </a:lnTo>
                <a:lnTo>
                  <a:pt x="11553" y="18163"/>
                </a:lnTo>
                <a:lnTo>
                  <a:pt x="15135" y="18163"/>
                </a:lnTo>
                <a:lnTo>
                  <a:pt x="15135" y="12293"/>
                </a:lnTo>
                <a:lnTo>
                  <a:pt x="6465" y="12293"/>
                </a:lnTo>
                <a:lnTo>
                  <a:pt x="6465" y="18163"/>
                </a:lnTo>
                <a:lnTo>
                  <a:pt x="10047" y="1816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1:27:22Z</dcterms:created>
  <dc:creator>Ba-k.com</dc:creator>
  <dc:description/>
  <dc:language>en-US</dc:language>
  <cp:lastModifiedBy>Ba-k.com</cp:lastModifiedBy>
  <dcterms:modified xsi:type="dcterms:W3CDTF">2010-06-18T00:07:56Z</dcterms:modified>
  <cp:revision>9</cp:revision>
  <dc:subject/>
  <dc:title>Diapositiva 1</dc:title>
</cp:coreProperties>
</file>